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agic.wav" ContentType="audio/x-wav"/>
  <Override PartName="/ppt/media/image2.wmf" ContentType="image/x-wmf"/>
  <Override PartName="/ppt/media/image3.png" ContentType="image/png"/>
  <Override PartName="/ppt/media/Fanfare1.wav" ContentType="audio/x-wav"/>
  <Override PartName="/ppt/media/image4.jpeg" ContentType="image/jpeg"/>
  <Override PartName="/ppt/media/hoerbeispiel3_2.wav" ContentType="audio/x-wav"/>
  <Override PartName="/ppt/media/hoerbeispiel4_2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D23-5316-48C5-9006-3B866FB1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94F8-A64D-44C6-BF0B-70C07025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C52-88D1-454D-BF76-7B354E23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DA4-9516-49DE-92BE-F34F0EBB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BF9-7BCA-4A2F-84A3-D6336A39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B080-1339-4D27-A4C2-F41956B6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D01-8C06-4458-A6E2-ACC64C64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A3B8-2373-4D86-86EC-1B56D7D1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348-986A-4CBF-AA0C-A175CA53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E678-32A1-495A-AEA0-2470321F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03AD-E271-49A8-AD95-54B6DB3A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89A1-D520-4C5B-91EF-AAD0D7C0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F6EE-EAE1-4C1C-B1D3-355B76359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audio" Target="../media/Fanfare1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Magic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Magic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Magic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Magic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Magic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Magic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Magic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Magic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Magic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Magic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hyperlink" Target="file:///tmp/home/.config/libreoffice/4/user/gallery/Fanfare1.wav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audio" Target="../media/hoerbeispiel3_2.wav"/><Relationship Id="rId7" Type="http://schemas.openxmlformats.org/officeDocument/2006/relationships/audio" Target="../media/hoerbeispiel4_2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Magic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Magic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Magic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Magic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Magic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Magic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hyperlink" Target="file:///tmp/home/.config/libreoffice/4/user/gallery/Fanfare1.wav" TargetMode="External"/><Relationship Id="rId4" Type="http://schemas.openxmlformats.org/officeDocument/2006/relationships/image" Target="../media/image3.png"/><Relationship Id="rId5" Type="http://schemas.openxmlformats.org/officeDocument/2006/relationships/audio" Target="../media/Fanfare1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hyperlink" Target="file:///tmp/home/.config/libreoffice/4/user/gallery/Fanfare1.wav" TargetMode="External"/><Relationship Id="rId4" Type="http://schemas.openxmlformats.org/officeDocument/2006/relationships/image" Target="../media/image3.png"/><Relationship Id="rId5" Type="http://schemas.openxmlformats.org/officeDocument/2006/relationships/audio" Target="../media/Fanfare1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Magic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Magic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Magic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Magic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Magic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Magic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158920" y="134136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anfa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00000" y="2708280"/>
            <a:ext cx="360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Clan Mc L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414828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 Hemd welches BP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feking t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414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abhängigkeit I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270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 Zeichen des Gilwell P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360" y="2781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9640" y="422100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788000" y="2781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788000" y="422100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1628640"/>
            <a:ext cx="784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 Muster am Gilwell Halstuch steht fü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gi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3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3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00000" y="2708280"/>
            <a:ext cx="360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ler, Reh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örche, Schwal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414828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nepfen, Stie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ölfe, Hir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414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iere, Wölfe, Raben, Schnep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48360" y="270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msen, Wölfe, Fink, Sta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2781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640" y="422100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788000" y="2781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788000" y="422100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1628640"/>
            <a:ext cx="784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ie hießen die 4 Patrullen die auf der Insel Brownsea teilnahm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gi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0000" y="2708280"/>
            <a:ext cx="360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hatma Ghan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414828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n Lord fo Gil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48360" y="414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Qu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270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lave St. Claire So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360" y="2781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9640" y="422100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788000" y="2781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788000" y="422100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1628640"/>
            <a:ext cx="784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n lernte BP auf seiner Weltreise 1912 kenn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gi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4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00000" y="2708280"/>
            <a:ext cx="360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mp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414828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hod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414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dalus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48360" y="270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fe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360" y="2781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9640" y="422100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788000" y="2781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788000" y="422100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900000" y="1628640"/>
            <a:ext cx="784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lche Stadt verteidigte BP im Jahre 18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gi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4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0000" y="2708280"/>
            <a:ext cx="360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tha von Sut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414828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ria Montess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48360" y="414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utter Th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48360" y="270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lisabeth Geh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360" y="2781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9640" y="422100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788000" y="2781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788000" y="422100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1628640"/>
            <a:ext cx="784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t welchen „Erziehungssystem“ einer heutzutage sehr bekann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ädagogin kann man das System der Pfadfi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m ehesten vergleich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gi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5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00000" y="2708280"/>
            <a:ext cx="360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nder of space mou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414828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rld organis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 the scout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48360" y="414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as Oma nicht schaf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ch 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48360" y="270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r ohne Schlaf ge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t mir wan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8360" y="2781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640" y="422100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88000" y="2781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788000" y="422100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900000" y="1628640"/>
            <a:ext cx="784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Abkürzung „WOSM“ steht fü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gi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5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00000" y="2708280"/>
            <a:ext cx="360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00000" y="414828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48360" y="414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48360" y="270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8360" y="2781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9640" y="422100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788000" y="2781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788000" y="422100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1628640"/>
            <a:ext cx="784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 erste Jamboree fand 1920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gi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6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6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00000" y="2708280"/>
            <a:ext cx="360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9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0000" y="414828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414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9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70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9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2781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9640" y="422100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788000" y="2781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788000" y="422100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8" name=""/>
          <p:cNvSpPr/>
          <p:nvPr/>
        </p:nvSpPr>
        <p:spPr>
          <a:xfrm>
            <a:off x="900000" y="1628640"/>
            <a:ext cx="784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 Jamboree in Österreich w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gi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6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6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00000" y="2708280"/>
            <a:ext cx="360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 Kürzel aus dem WW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0000" y="414828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Abkürz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nächsten Handy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48360" y="414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ater alpine guiding gir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d gumplin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48360" y="270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rld association of girl gu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d girl sco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68360" y="2781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9640" y="422100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788000" y="2781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788000" y="422100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1628640"/>
            <a:ext cx="784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Abkürzung WAGGGS steht fü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gi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72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72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00000" y="2708280"/>
            <a:ext cx="360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08.01.19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414828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7.02.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8360" y="414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2.2.18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48360" y="270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01.08.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68360" y="2781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422100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788000" y="2781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788000" y="422100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6" name=""/>
          <p:cNvSpPr/>
          <p:nvPr/>
        </p:nvSpPr>
        <p:spPr>
          <a:xfrm>
            <a:off x="900000" y="1628640"/>
            <a:ext cx="784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P starb 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gi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77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7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58920" y="1341360"/>
            <a:ext cx="4824360" cy="48243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0" y="0"/>
            <a:ext cx="9144000" cy="6905520"/>
            <a:chOff x="0" y="0"/>
            <a:chExt cx="9144000" cy="6905520"/>
          </a:xfrm>
        </p:grpSpPr>
        <p:pic>
          <p:nvPicPr>
            <p:cNvPr id="54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771640" y="5229360"/>
              <a:ext cx="288000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ffff"/>
                  </a:solidFill>
                  <a:latin typeface="Comic Sans MS"/>
                </a:rPr>
                <a:t>SCOUT TV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6165720"/>
            <a:ext cx="8964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Auf Grund eines technischen gebrechen steht uns der „Fragen High Performance Terminal“ nicht zur Verfügung wir bitten um Verständnis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oerbeispiel3_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oerbeispiel4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remove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00000" y="2708280"/>
            <a:ext cx="360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peesa &amp; Kleiner 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00000" y="414828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tankya &amp; Impe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48360" y="414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ch bin ich &amp; Katank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48360" y="270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rownsea &amp; Buben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68360" y="2781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9640" y="422100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788000" y="2781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788000" y="422100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1628640"/>
            <a:ext cx="784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P hatte mehrere Spitznamen welche stimm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gi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8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81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00000" y="2708280"/>
            <a:ext cx="360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irl gu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00000" y="414828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14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lave St. Claire So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48360" y="270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row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68360" y="2781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9640" y="422100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788000" y="2781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788000" y="422100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4" name=""/>
          <p:cNvSpPr/>
          <p:nvPr/>
        </p:nvSpPr>
        <p:spPr>
          <a:xfrm>
            <a:off x="900000" y="1628640"/>
            <a:ext cx="784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909 sah BP wen zum Ersten Ma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gi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6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00000" y="2708280"/>
            <a:ext cx="360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ter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00000" y="414828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lice Sp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8360" y="414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row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48360" y="270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rown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68360" y="2781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640" y="422100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788000" y="2781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788000" y="422100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900000" y="1628640"/>
            <a:ext cx="784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ie heißt die Insel auf der das erste Lager statt f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gi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0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00000" y="2708280"/>
            <a:ext cx="360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14828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48360" y="414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r. Neusta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48360" y="270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lz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68360" y="2781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39640" y="422100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788000" y="2781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788000" y="422100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2" name=""/>
          <p:cNvSpPr/>
          <p:nvPr/>
        </p:nvSpPr>
        <p:spPr>
          <a:xfrm>
            <a:off x="900000" y="1628640"/>
            <a:ext cx="784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 befand sich die erste Pfadfindergruppe Österreich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gi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95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9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00000" y="2708280"/>
            <a:ext cx="360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ch habe meine Aufgabe erfüll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nd bin nach Hause gega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00000" y="414828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ut Pf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148360" y="414972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‘ll be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48360" y="270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o 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68360" y="2781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422100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788000" y="2781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788000" y="422100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6" name=""/>
          <p:cNvSpPr/>
          <p:nvPr/>
        </p:nvSpPr>
        <p:spPr>
          <a:xfrm>
            <a:off x="900000" y="1628640"/>
            <a:ext cx="784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as befindet sich auf BP Grabste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gi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0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00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900000" y="2708280"/>
            <a:ext cx="360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2.02.19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00000" y="414828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2.02.18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48360" y="414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2.02.1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48360" y="270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08.01.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8360" y="2781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39640" y="422100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788000" y="2781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788000" y="422100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900000" y="1628640"/>
            <a:ext cx="784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lave St. Claire Soames wurde am …..gebor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gi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4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0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0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58920" y="1341360"/>
            <a:ext cx="4824360" cy="48243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1619280" y="2421000"/>
            <a:ext cx="5545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nfa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58920" y="134136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nfa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0000" y="2708280"/>
            <a:ext cx="360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ord Baden Po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14828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lave St. Claire Po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414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lave St. Claire So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270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obert Stepenson Sm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aden Po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781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640" y="422100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788000" y="2781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788000" y="422100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628640"/>
            <a:ext cx="784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r wurde am 22.02.1857 gebor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gi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00000" y="2708280"/>
            <a:ext cx="360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lta &amp;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414828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ussland und Öster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414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üdafrika &amp; K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48360" y="270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rland &amp; Austr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781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9640" y="422100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788000" y="2781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788000" y="422100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628640"/>
            <a:ext cx="784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welchen Ländern war BiPi während seiner Militärze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gi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00000" y="2708280"/>
            <a:ext cx="360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irst Aid Scout Tr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414828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ids to sc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8360" y="414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 secret g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8360" y="270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outing for Bo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781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9640" y="422100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88000" y="2781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788000" y="422100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1628640"/>
            <a:ext cx="784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ie heißt das erste Buch welches BiP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ährend seiner Militärzeit schrie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gi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00000" y="2708280"/>
            <a:ext cx="360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burtsjahr von BiPis er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414828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Jahr in dem er seine Fr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ennen ler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414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. Jambo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270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ündungsjahr der Pfadf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781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9640" y="422100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788000" y="2781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788000" y="422100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628640"/>
            <a:ext cx="784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907 war das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gi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00000" y="2708280"/>
            <a:ext cx="360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iedliches Tre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r Stä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414828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 laute Gehe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8360" y="414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aldschr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270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ibertref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781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9640" y="422100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788000" y="2781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788000" y="422100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1628640"/>
            <a:ext cx="784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Jamboree bedeu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gi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00000" y="2708280"/>
            <a:ext cx="360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n einer hölzernen Holzket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 BP bei einem Mäd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and dem er das Leben rett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4148280"/>
            <a:ext cx="360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n einer Kette mit tausend Holzperlen die BP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nizulu dem Häuptling der Z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ach einer Niederlage bekommen hat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414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s Andenken an das erste Jambo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48360" y="2708280"/>
            <a:ext cx="3600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n einer Holzperlenkette die B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ährend seiner Stationierung in Afri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kommen ha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260280"/>
            <a:ext cx="8642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Pfadi Millionen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3920" cy="746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885080" y="33336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5827680" y="590400"/>
            <a:ext cx="1619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CKS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360" y="2781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39640" y="422100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788000" y="2781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788000" y="422100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1628640"/>
            <a:ext cx="784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her stammen die ersten im Gillwell Pa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liehenen Waldabzeichen (Woodbadg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gi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2:13:06Z</dcterms:created>
  <dc:creator>uNPU793</dc:creator>
  <dc:description/>
  <dc:language>en-US</dc:language>
  <cp:lastModifiedBy>uNPU793</cp:lastModifiedBy>
  <dcterms:modified xsi:type="dcterms:W3CDTF">2003-10-25T08:57:44Z</dcterms:modified>
  <cp:revision>10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63796712</vt:r8>
  </property>
  <property fmtid="{D5CDD505-2E9C-101B-9397-08002B2CF9AE}" pid="3" name="_AuthorEmail">
    <vt:lpwstr>Markus.Gross@telekom.at</vt:lpwstr>
  </property>
  <property fmtid="{D5CDD505-2E9C-101B-9397-08002B2CF9AE}" pid="4" name="_AuthorEmailDisplayName">
    <vt:lpwstr>Groß Markus</vt:lpwstr>
  </property>
  <property fmtid="{D5CDD505-2E9C-101B-9397-08002B2CF9AE}" pid="5" name="_EmailSubject">
    <vt:lpwstr>erinnerung - eps-kartei</vt:lpwstr>
  </property>
</Properties>
</file>